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E37-17F5-47FF-80AE-A017E539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E37-5D20-45F9-AF30-AC342B1F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0C6-E821-427B-8859-C0DEB915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437-889D-47A7-A41A-0BC51AEA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56AE-F7F7-4AAD-8404-C316222B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E30F-39BA-41EE-A332-89F40014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24E5-405A-4AB5-BC55-0470B577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1DBB-D719-4B39-8BDC-5BACFEDA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7C93-C126-4C65-BF49-A43C6A46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39BE-5056-4724-970A-E8DF3F70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7554-9648-4A11-A694-34C34EAA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35B-59A6-4850-A87F-842E8601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5794-4EC8-4E33-886C-5830ABA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13F5-2293-4961-BA8E-A5566CC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33A7-8DED-4FA0-B079-02808738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A203-C42A-422E-BEA1-AEA62435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32AE-B9E1-4D4A-BF67-A0E9A309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EC2-ACF1-4747-86F3-2CFE106E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946-C9D3-4241-8F82-E2FC677B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850-C96E-4A96-A424-153B0B12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FFE-3FF0-4AA5-91D1-1007F44E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D76-1F2B-4040-8042-6859E7A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F2A-F912-4F1C-9D32-2D80CC4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24A-5BE2-4AE9-9E82-66315952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4E2A-AA64-4349-AEFE-008601ADF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056E-5DDA-481E-9558-24B1F1C5C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САВРЕМЕНО ВОЂЕЊЕ ПОРОЂА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  ДР Ј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ЂУРИ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КАРЛИЧНА ПРЕЗЕНТАЦИ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арлична презентација је уздужни положај плода код кога предњачи карлица. Проценат матуруса које предњаче карлицом значајно опада како се приближава термин порођаја: око 20 - те недеље гестације износи 30%, а у термину износи  3 - 4 %. Осим прематуритета, постоји још разлога постављања фетуса у тај положај. То с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етерана релаксација утеруса, полихидроамнион, аномалије утеруса, вишеплодна трудноћа, миоми, фундусна плацентација. Најчешћа је једноставна карлична презентација (око 65%), затим потпуна и непотпуна карлична, док су потпуна и непотпуна презентација коленима и ножицама ређ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КАРЛИЧНА ПРЕЗЕНТАЦИ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роценат оперативно завршених карличних порођаја варира (негде износи 100%), али ставови о оправданости царског реза су различити.  Поједини аутори предлажу елективни царски рез у свим случајевима карличне презентације, а други сматрају да то није неопходно. Заговара се и спољашњи окрет у 36. или 37. недељи гестације и на тај се начин смањује проценат оперативно завршених порођаја царским резом уз строго придржавање јасних контраиндикација као што су: претходни рез на утерусу, плацента превија и ИУГ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КАРЛИЧНА ПРЕЗЕНТАЦИ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ФИГО је изнео препоруку за широком променом царског реза код карличне презентације, али није експлицитно искључио, односно забранио вагинални порођај, у строго одабраним условима. Препоруке су широко прихваћене и заснивају се на  клиничким и ултрасонографским испитивањима, две недеље пре порођаја или у порођајној сали након почетка порођаја. Потребно је урадити компјутеризовану томографију (ЦТ) мале карлице и премерити дијаметре (антериопостериорни мора бити вечи од 10,5 цм., а трансверзални већи од 12 цм). Истовремено ултрасонографски, БПД плода не сме бити већи од 98 мм. Не сме постојати сумња о интраутерином застоју у расту, као ни макрозомија. Уколико неки од ових услова није испуњен, планира се елективни царски рез у 39. недељи гестац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ВИШЕПЛОДНА ТРУДНОЋ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discuss_2_sm"/>
          <p:cNvPicPr/>
          <p:nvPr/>
        </p:nvPicPr>
        <p:blipFill>
          <a:blip r:embed="rId1"/>
          <a:stretch/>
        </p:blipFill>
        <p:spPr>
          <a:xfrm>
            <a:off x="4473720" y="3336840"/>
            <a:ext cx="198360" cy="185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scuss_2_sm"/>
          <p:cNvPicPr/>
          <p:nvPr/>
        </p:nvPicPr>
        <p:blipFill>
          <a:blip r:embed="rId2"/>
          <a:stretch/>
        </p:blipFill>
        <p:spPr>
          <a:xfrm>
            <a:off x="2700360" y="2076480"/>
            <a:ext cx="42480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ВИШЕПЛОДНА ТРУДНОЋ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ВИШЕПЛОДНА ТРУДНОЋЕ ЈЕ КАД СЕ У МАТЕРИЦИ ИСТОВРЕМЕНО РАЗВИЈА ВИШЕ ПЛОД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ВИШЕПЛОДНА ТРУДНОЋ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астаје у око 12,5 % нормално зачетих трудноћа али само 14% се изнесе до краја трудноћ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ЈЕДНОЈАЈЧАНИ БЛИЗАНЦИ на 250 по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до трећег дана - бихориони и биамниа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До оспог дана - биамниани и монохорион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До деветог дана - монохориони и моноанмиа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После деветог дана сијамски близанц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ВОЈАЈЧАНИ БЛИЗАНЦИ два пута чешћ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године.- код старијих трудн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Чешћи код црне расе а најређи код азија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Наслеђ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Стимулација овулацује и асистирана репродукц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ВИШЕПЛОДНА ТРУДНОЋ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ДИЈАНОЗ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КЛИНИЧКА СЛ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ЕЋИ ОБИМ ТРБУ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ИШИ ФУНДУ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АЛПИРАЊЕ ДВА ПЛ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БИОХЕМИЈСКИ ПАРАМЕТ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ИШЕ ВРЕДНОСТИ ХЦГ, АФП, ХПЛ, 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БИОФИЗИЧКИ ПРЕГЛЕД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З ПРЕГЛЕ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ВИШЕПЛОДНА ТРУДНОЋ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МАТЕРНАЛНЕ КОМПЛИКАЦ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ЕЋИ БРОЈ СПОНТАНИХ ПОБАЧАЈА И ПРЕВРЕМЕНИХ ПОРОЂА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ХИПЕРТЕНЗИЈА 5 ПУТА ЧЕШЋ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ТЕШКЕ АНЕМ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ЛИХИДРОАМНИ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АБРУПЦИЈА ПЛАЦЕН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СПАРТАЛНЕ АТОН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ИШЕ СЕ ГУБИ КРВИ ПРИ ВАГ. ПОРОЂАЈ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ЕЋИ БРОЈ СЕ ЗАВРШИ ЦАРСКИМ РЕЗ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ВИШЕПЛОДНА ТРУДНОЋ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ФЕТАЛНЕ КОМПЛИКАЦ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ЕМАТУРИТ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РТВОРОЂЕНОСТ И НЕОНАТАЛНА СМРТ 10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НГЕНИТАЛНЕ АНОМАЛИЈЕ 3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ИСКОРДИНАНТНИ РАСТ   фето – фетална трансфуз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ВИШЕПЛОДНА ТРУДНОЋ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ПОРОЂАЈ ПРЕ СВЕГА ЗАВИСИ У КОМ ПОЛОЖАЈИ СЕ НАЛАЗА БЛИЗАНЦ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НАЈПОВОЉНИЈЕ КАД ОБА ПРЕДЊАЧЕ ГЛАВ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КАД ПРВИ ПРЕДЊАЧИ КАРЛИЦОМ ПОСТОЈИ МОГУЋНОСТ КОЛИЗИЈ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САВРЕМЕНО ВОЂЕЊЕ ПОТ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Подразумева његову потпуну контролу у свим фаза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НЕПРАВИЛНОСТИ ПОР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СЛОВЉЕНЕ ПОР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ЂАЈНИМ ПУТЕВИ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УСЛОВЉЕНЕ НЕАДЕКВАТНИМ КОНТРАКЦИЈА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ИЗАЗВАНЕ ПОРЕМЕЋАЈИМА ПОЛОЖАЈА И РОТАЦИЈ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НЕПРАВИЛНОСТИ ПОР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ПАТОЛОШКИ ПОЛОЖА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РОТАЦИОНЕ АНОМАЛИЈ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АСИНКЛИТИЗ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5b69d"/>
                </a:solidFill>
                <a:latin typeface="Times New Roman"/>
              </a:rPr>
              <a:t>ПАТОЛОШКИ ПОЛОЖАЈ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cc00"/>
                </a:solidFill>
                <a:latin typeface="Times New Roman"/>
              </a:rPr>
              <a:t>КОСИ ПОЛОЖАЈ </a:t>
            </a:r>
            <a:r>
              <a:rPr b="0" lang="sr-Latn-CS" sz="2800" spc="-1" strike="noStrike">
                <a:solidFill>
                  <a:srgbClr val="cccc00"/>
                </a:solidFill>
                <a:latin typeface="Times New Roman"/>
              </a:rPr>
              <a:t>(Situs obliqu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Осовина тела мајке и плода чине оштар уга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Најчешће је транзитор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cc00"/>
                </a:solidFill>
                <a:latin typeface="Times New Roman"/>
              </a:rPr>
              <a:t>ПОПРЕЧНИ ПОЛОЖАЈ </a:t>
            </a:r>
            <a:r>
              <a:rPr b="0" lang="sr-Latn-CS" sz="2800" spc="-1" strike="noStrike">
                <a:solidFill>
                  <a:srgbClr val="cccc00"/>
                </a:solidFill>
                <a:latin typeface="Times New Roman"/>
              </a:rPr>
              <a:t>(Situs transvers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Осовина тела мајке и плода нине прав уга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Око 0,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Етиологија    -миоматозна материца, плацента превиа, вишеплодна трудноћа, вишеротке, аномалије фетуса, сужене карлице, полихидроамнион ит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Дијагноза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- спољашњи преглед, унутрашњи преглед, УЗ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Порођај       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- спољашњи окрет у 36 НГ, СЦ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Опасност        - испадање ручице, пролапс пупчан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РОТАЦИОНЕ АНОМАЛИ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ЗАДЊИ ПОТИЉАЧНИ СТАВ ГЛА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cc00"/>
                </a:solidFill>
                <a:latin typeface="Times New Roman"/>
              </a:rPr>
              <a:t>PRESENTATIO OCCIPITOPOSTERIO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0,5 ДО 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Леђа плода су окренута позади, тачка водиља мала фонтанела је окренута према сакруму, глава нормално флектир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ТИОЛОГИЈА   - слабост трбушног зида, мали или мртав плод, кефалопелвична диспропорциј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ИЈАГНОЗА    - унутрашњи прегле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РОЂАЈ        - вагинални-присилна флексија па дефлексија. продужен, велика опасност за међицу. вакум форцеп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С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РОТАЦИОНЕ АНОМАЛИ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ВИСОКИ ПРАВ СТАВ ГЛА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cc00"/>
                </a:solidFill>
                <a:latin typeface="Times New Roman"/>
              </a:rPr>
              <a:t>PRESENTATIO RECTA CAPITIS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0,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лава се налази изнад или у улазу карлице а са сутуром сагиталис уздуж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ТИОЛОГИЈА  - сужена карлица, рахитична, плацента превиа, миоми, деформитети метерице, наказност пл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ИЈАГНОЗА   - унутрашњи прегле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РОЂАЈ        -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куглачки хват рук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РОТАЦИОНЕ АНОМАЛИ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ИСКИ ПОПРЕЧНИ СТАВ ГЛА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cc00"/>
                </a:solidFill>
                <a:latin typeface="Times New Roman"/>
              </a:rPr>
              <a:t>PRESENTATIO TRANSVERSA INFERIOR CAP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 0,5 до 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Глава плода је прошла интерспиналну линију без унутрашње ротац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ТИОЛОГИЈА    - лавкасто сужена карлица, рахитична карлица, секундарно слаби болови, мали пл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РОЂАЈ      - Вагинални немогућ уколико не дође до ротац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ЕФЛЕКСИОНИ СТАВОВ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МЕ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 Presentatio parieta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ЕО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 Presentatio fronta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ИЧ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 Presentatio facia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СИНКЛИТИЗМ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синклитизам је кад сутура сагиталис није подједнако удаљена од симфизе и промонторијума као последица додатног нагињања главице плода у страну( напред или позад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синклитично држања главе плода није увек знак диспропорције и може бити прелазни феномен у периоду акомодације главе порођајном канал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синклитизму увек предходи преклапање костиј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СИНКЛИТИЗМ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ЕДЊИ ( NEGELO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утура сагиталис је постављена ближе промонторијум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вољнији јер се задња париетална кост подвлачи под предњ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Могућ вагинални порођа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ЗАДЊИ ( LICMANO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утура сагиталис је ближе симфиз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век знак диспропорц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могуће преклапање костиј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орођај се завршава 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САВРЕМЕНО ВОЂЕЊЕ ПОТ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Започиње од пријема трудниц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аћење виталних парамет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Пул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Тенз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ис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нтрола стања пл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Аускултација срчаних тонова – CT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УЗ прегле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Пехаметриј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нтрола тока порођа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Редовни вагинални прегледи( 1 до 2 сат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Вођење партогра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САВРЕМЕНО ВОЂЕЊЕ ПОТ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Савремено акушерство подразумева активно вођење порођаја јер тако у највећој мери предупређујемо компликациј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САВРЕМЕНО ВОЂЕЊЕ ПОТ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РВО ПОРОЂАЈНО ДО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Дозвољено је кретање трудниц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Присутна је бабица уз трудниц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нтрола тензије и пулса свака три сата а температуре на 4 са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Контрола плода - аускултација и ЦТ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Редовни гинеколошки прегледи на 1 до 2 сата а по потреби и ран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САВРЕМЕНО ВОЂЕЊЕ ПОТ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ДРУГО ПОРОЂАЈНО ДО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ВИТАЛНИ ФАКТОРИ НА 30 МИНУ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УСКУЛТАЦИЈА НАКОН СВАКЕ КОНТРАКЦ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ЕПИЗИОТОМ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СПИРАЦИЈА НОВОРОЂЕНЧ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ОДВЕЗИВАЊЕ ПУПЧА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ПГАР СК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САВРЕМЕНО ВОЂЕЊЕ ПОТ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ТРЕЋЕ ПОРОЂАЈНО ДО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СИСТИРАНО РАЂАЊЕ ПОСТЕЉИЦЕ НАКОН СИГУРНИХ ЗНАКОВА ДА СЕ ОДЉУБ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НИКАКО НА СИЛУ( опасност од инверзиј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БАВЕЗАН ПРЕГЛЕД ПОСТЕЉИЦ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ЗБРИЊАВАЊЕ ЕПИЗИОТОМИЈЕ И ЕВЕНТУАЛНИХ РАСЦЕПА МЕКИХ ТКИ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САВРЕМЕНО ВОЂЕЊЕ ПОТ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ЧЕТВРТО ПОРОЂАЈНО ДО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НТЕНЗИВНО ПРАЋЕЊЕ ВИТАЛНИХ ЗНАКОВА И КРВАРЕЊ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ОПАСНОСТ АТОН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Исцрп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љ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Заостали делови постељичног тк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РИМЕНА УТЕРОТО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РИМЕНА PGF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eec94"/>
                </a:solidFill>
                <a:latin typeface="Times New Roman"/>
              </a:rPr>
              <a:t>САВРЕМЕНО ВОЂЕЊЕ ПОТОЂАЈ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ПОДРАЗУМЕВА ПРИМЕНУ ОДРЕЂЕНИХ ЛЕКОВА У ЦИЉУ УБРЗАЊА ПОРОЂАЈА И ЊЕГОБОГ ОБЕЗБОЉАВАЊ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Интравенска инфузија Синтоцино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Петантин хидрохлорид (Доланти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Бензодиазепи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ЕПИДУРАЛНА АНЕСТЕЗ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35:10Z</dcterms:created>
  <dc:creator>User</dc:creator>
  <dc:description/>
  <dc:language>en-US</dc:language>
  <cp:lastModifiedBy>Slobodan Arsenijevic</cp:lastModifiedBy>
  <dcterms:modified xsi:type="dcterms:W3CDTF">2012-03-23T07:33:45Z</dcterms:modified>
  <cp:revision>12</cp:revision>
  <dc:subject/>
  <dc:title>SAVREMENO VOĐENJE POROĐAJA</dc:title>
</cp:coreProperties>
</file>